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Earth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hapter 11, sec. 1 </a:t>
            </a:r>
            <a:r>
              <a:rPr b="0" i="1" lang="en-US" sz="3600" spc="-1" strike="noStrike">
                <a:solidFill>
                  <a:srgbClr val="ecca22"/>
                </a:solidFill>
                <a:latin typeface="Arial"/>
              </a:rPr>
              <a:t>continued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"/>
          <p:cNvSpPr/>
          <p:nvPr/>
        </p:nvSpPr>
        <p:spPr>
          <a:xfrm>
            <a:off x="1593720" y="633240"/>
            <a:ext cx="678816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hat causes changing seasons?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—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Orbiting the 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644400" y="1731960"/>
            <a:ext cx="789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evolu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yearly orbit around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609480" y="2743200"/>
            <a:ext cx="789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orbit is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ellip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—an elongated, closed curv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685800" y="3886200"/>
            <a:ext cx="750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 is not at the center of the ellipse, but is a little toward one en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33520" y="2286000"/>
            <a:ext cx="8229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gets closest to the Sun—about 147 million km away—around January 3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33520" y="35812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arthest Earth gets away from the Sun is about 152 million km away. This happens around July 4 each yea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1593720" y="633240"/>
            <a:ext cx="678816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What causes changing seasons?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—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Orbiting the 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 Tilted Ax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44400" y="1219320"/>
            <a:ext cx="789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axis is tilted 23.5° from a line drawn perpendicular to the plane of its orbi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50880" y="2178000"/>
            <a:ext cx="8035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this tilt that causes season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44400" y="2666880"/>
            <a:ext cx="35467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mber of daylight hours is greater for the hemisphere, or half of Earth, that is tilted toward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Picture 10" descr="im16"/>
          <p:cNvPicPr/>
          <p:nvPr/>
        </p:nvPicPr>
        <p:blipFill>
          <a:blip r:embed="rId1"/>
          <a:stretch/>
        </p:blipFill>
        <p:spPr>
          <a:xfrm>
            <a:off x="4267080" y="2730600"/>
            <a:ext cx="43434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 Tilted Axi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44400" y="1600200"/>
            <a:ext cx="78901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misphere that is tilted toward the Sun receives more hours of sunlight each day than the hemisphere that is tilted away from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50880" y="3844800"/>
            <a:ext cx="80359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nger period of sunlight is one reason summer is warmer than winter, but it is not the only reaso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9:51:36Z</dcterms:created>
  <dc:creator>Cherie Hatton</dc:creator>
  <dc:description/>
  <dc:language>en-US</dc:language>
  <cp:lastModifiedBy>St. Aloysius</cp:lastModifiedBy>
  <dcterms:modified xsi:type="dcterms:W3CDTF">2013-11-06T18:28:31Z</dcterms:modified>
  <cp:revision>496</cp:revision>
  <dc:subject/>
  <dc:title>Slide 1</dc:title>
</cp:coreProperties>
</file>